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cashreg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71708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4CE2-20E1-4FB7-9E34-6C9761FCF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1412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5964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5040"/>
            <a:ext cx="8915400" cy="215964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E4B1-2C93-4773-AA70-D15E5B1A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1412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5964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5964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5040"/>
            <a:ext cx="4350600" cy="215964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5040"/>
            <a:ext cx="4350600" cy="215964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8212-AEA9-4F1B-A521-DBE72B22D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1412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5964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5964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5964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5040"/>
            <a:ext cx="2870640" cy="215964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5040"/>
            <a:ext cx="2870640" cy="215964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5040"/>
            <a:ext cx="2870640" cy="215964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CB92-07C1-4DFE-A8A6-8C38CB8EC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1412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011A-68A3-4A95-BA72-75A3BD78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1412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2772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2E3A-C435-4AD4-BC14-CA5C7826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1412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2772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2772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EAEC-AF77-4079-B939-C7AFE206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1412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4E51-B6D0-4B35-97D9-A7924834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680"/>
            <a:ext cx="891540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6EF0-AD0A-4040-B537-B58FB7B3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1412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5964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2772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5040"/>
            <a:ext cx="4350600" cy="215964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BDB3-A364-448E-8811-AF230E6B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1412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2772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5964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5040"/>
            <a:ext cx="4350600" cy="215964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A9A9-A611-4669-83C1-F325EE97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1412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5964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5964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5040"/>
            <a:ext cx="8915400" cy="215964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A003-C8DB-438D-AA3B-22581E7B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1412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2772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marL="169920" indent="-169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13968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126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787320" indent="-11412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012680" indent="-11268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012680" indent="-11268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012680" indent="-11268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3120"/>
            <a:ext cx="2309760" cy="48132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th-TH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th-TH" sz="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2560" y="6243120"/>
            <a:ext cx="3140280" cy="48132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01000" y="6243120"/>
            <a:ext cx="2309760" cy="48132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A324F00-6896-4C27-9F00-B24471943588}" type="slidenum">
              <a:rPr b="0" lang="en-US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0520" y="115920"/>
            <a:ext cx="885636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1800" spc="-1" strike="noStrike">
                <a:solidFill>
                  <a:srgbClr val="ff33cc"/>
                </a:solidFill>
                <a:latin typeface="Cordia New"/>
                <a:cs typeface="LilyUPC"/>
              </a:rPr>
              <a:t>แผนภูมิแสดงความเชื่อมโยงยุทธศาสตร์การจัดสรรงบประมาณ ผลผลิต และงบประมาณที่ได้รับปี </a:t>
            </a:r>
            <a:r>
              <a:rPr b="1" lang="en-US" sz="1800" spc="-1" strike="noStrike">
                <a:solidFill>
                  <a:srgbClr val="ff33cc"/>
                </a:solidFill>
                <a:latin typeface="Cordia New"/>
                <a:ea typeface="LilyUPC"/>
              </a:rPr>
              <a:t>2551 </a:t>
            </a:r>
            <a:r>
              <a:rPr b="1" lang="hi-IN" sz="1800" spc="-1" strike="noStrike">
                <a:solidFill>
                  <a:srgbClr val="ff33cc"/>
                </a:solidFill>
                <a:latin typeface="Cordia New"/>
                <a:cs typeface="LilyUPC"/>
              </a:rPr>
              <a:t>กรมสนับสนุนบริการสุขภาพ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8520" y="566640"/>
            <a:ext cx="1336680" cy="87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spAutoFit/>
          </a:bodyPr>
          <a:p>
            <a:pPr algn="ctr">
              <a:lnSpc>
                <a:spcPct val="8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1600" spc="-1" strike="noStrike">
                <a:solidFill>
                  <a:srgbClr val="0000ff"/>
                </a:solidFill>
                <a:latin typeface="Cordia New"/>
                <a:cs typeface="Cordia New"/>
              </a:rPr>
              <a:t>ยุทธศาสตร์กา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1600" spc="-1" strike="noStrike">
                <a:solidFill>
                  <a:srgbClr val="0000ff"/>
                </a:solidFill>
                <a:latin typeface="Cordia New"/>
                <a:cs typeface="Cordia New"/>
              </a:rPr>
              <a:t>จัดสรรงบประมา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2760" y="541440"/>
            <a:ext cx="4535280" cy="504720"/>
          </a:xfrm>
          <a:prstGeom prst="roundRect">
            <a:avLst>
              <a:gd name="adj" fmla="val 107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533520" indent="-53352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rdia New"/>
                <a:ea typeface="Cordia New"/>
              </a:rPr>
              <a:t>1.</a:t>
            </a:r>
            <a:r>
              <a:rPr b="1" lang="hi-IN" sz="1400" spc="-1" strike="noStrike">
                <a:solidFill>
                  <a:srgbClr val="0000ff"/>
                </a:solidFill>
                <a:latin typeface="Cordia New"/>
                <a:cs typeface="Cordia New"/>
              </a:rPr>
              <a:t>ยุทธศาสตร์การส่งเสริมให้ประชาชนมีสุขภาพที่ดี มีคุณธรรมนำความรู้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Cordia New"/>
                <a:cs typeface="Cordia New"/>
              </a:rPr>
              <a:t>และสามารถปรับตัวสู่สังคมฐานความรู้</a:t>
            </a:r>
            <a:r>
              <a:rPr b="1" lang="en-US" sz="1400" spc="-1" strike="noStrike">
                <a:solidFill>
                  <a:srgbClr val="0000ff"/>
                </a:solidFill>
                <a:latin typeface="Browallia New"/>
                <a:ea typeface="Browallia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61120" y="541440"/>
            <a:ext cx="3130560" cy="504720"/>
          </a:xfrm>
          <a:prstGeom prst="roundRect">
            <a:avLst>
              <a:gd name="adj" fmla="val 107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rdia New"/>
                <a:ea typeface="Cordia New"/>
              </a:rPr>
              <a:t>6. </a:t>
            </a:r>
            <a:r>
              <a:rPr b="1" lang="hi-IN" sz="1400" spc="-1" strike="noStrike">
                <a:solidFill>
                  <a:srgbClr val="0000ff"/>
                </a:solidFill>
                <a:latin typeface="Cordia New"/>
                <a:cs typeface="Cordia New"/>
              </a:rPr>
              <a:t>ยุทธศาสตร์การรักษาความมั่นคงของชาติแล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Cordia New"/>
                <a:cs typeface="Cordia New"/>
              </a:rPr>
              <a:t>ความสงบสุขของสังค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12880" y="1143000"/>
            <a:ext cx="4318200" cy="576360"/>
          </a:xfrm>
          <a:prstGeom prst="roundRect">
            <a:avLst>
              <a:gd name="adj" fmla="val 10722"/>
            </a:avLst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5440"/>
                <a:tab algn="l" pos="650880"/>
                <a:tab algn="l" pos="976320"/>
                <a:tab algn="l" pos="1301760"/>
                <a:tab algn="l" pos="1627200"/>
                <a:tab algn="l" pos="1952640"/>
                <a:tab algn="l" pos="2278080"/>
                <a:tab algn="l" pos="2603520"/>
                <a:tab algn="l" pos="2928960"/>
                <a:tab algn="l" pos="3254400"/>
                <a:tab algn="l" pos="3579840"/>
                <a:tab algn="l" pos="3905280"/>
                <a:tab algn="l" pos="4230720"/>
                <a:tab algn="l" pos="4556160"/>
                <a:tab algn="l" pos="4881600"/>
                <a:tab algn="l" pos="5207040"/>
                <a:tab algn="l" pos="5532480"/>
                <a:tab algn="l" pos="5857920"/>
                <a:tab algn="l" pos="6183360"/>
                <a:tab algn="l" pos="65088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rdia New"/>
                <a:ea typeface="Cordia New"/>
              </a:rPr>
              <a:t>1.3  </a:t>
            </a:r>
            <a:r>
              <a:rPr b="1" lang="hi-IN" sz="1400" spc="-1" strike="noStrike">
                <a:solidFill>
                  <a:srgbClr val="0000ff"/>
                </a:solidFill>
                <a:latin typeface="Cordia New"/>
                <a:cs typeface="Cordia New"/>
              </a:rPr>
              <a:t>ปรับปรุงและพัฒนาระบบสุขภาพแห่งชาติ และระบบบริการสาธารณสุ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25440"/>
                <a:tab algn="l" pos="650880"/>
                <a:tab algn="l" pos="976320"/>
                <a:tab algn="l" pos="1301760"/>
                <a:tab algn="l" pos="1627200"/>
                <a:tab algn="l" pos="1952640"/>
                <a:tab algn="l" pos="2278080"/>
                <a:tab algn="l" pos="2603520"/>
                <a:tab algn="l" pos="2928960"/>
                <a:tab algn="l" pos="3254400"/>
                <a:tab algn="l" pos="3579840"/>
                <a:tab algn="l" pos="3905280"/>
                <a:tab algn="l" pos="4230720"/>
                <a:tab algn="l" pos="4556160"/>
                <a:tab algn="l" pos="4881600"/>
                <a:tab algn="l" pos="5207040"/>
                <a:tab algn="l" pos="5532480"/>
                <a:tab algn="l" pos="5857920"/>
                <a:tab algn="l" pos="6183360"/>
                <a:tab algn="l" pos="65088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Cordia New"/>
                <a:cs typeface="Cordia New"/>
              </a:rPr>
              <a:t>รวมทั้งระบบหลักประกันสุขภาพถ้วนหน้า </a:t>
            </a:r>
            <a:r>
              <a:rPr b="1" lang="en-US" sz="1400" spc="-1" strike="noStrike">
                <a:solidFill>
                  <a:srgbClr val="0000ff"/>
                </a:solidFill>
                <a:latin typeface="Cordia New"/>
                <a:ea typeface="Cordia New"/>
              </a:rPr>
              <a:t>( 723,726,600 </a:t>
            </a:r>
            <a:r>
              <a:rPr b="1" lang="hi-IN" sz="1400" spc="-1" strike="noStrike">
                <a:solidFill>
                  <a:srgbClr val="0000ff"/>
                </a:solidFill>
                <a:latin typeface="Cordia New"/>
                <a:cs typeface="Cordia New"/>
              </a:rPr>
              <a:t>บาท</a:t>
            </a:r>
            <a:r>
              <a:rPr b="1" lang="en-US" sz="1400" spc="-1" strike="noStrike">
                <a:solidFill>
                  <a:srgbClr val="0000ff"/>
                </a:solidFill>
                <a:latin typeface="Cordia New"/>
                <a:ea typeface="Cordia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8520" y="1285920"/>
            <a:ext cx="1295640" cy="40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32400" tIns="16200" bIns="16200" anchor="t">
            <a:spAutoFit/>
          </a:bodyPr>
          <a:p>
            <a:pPr algn="ctr">
              <a:lnSpc>
                <a:spcPct val="76000"/>
              </a:lnSpc>
              <a:tabLst>
                <a:tab algn="l" pos="0"/>
                <a:tab algn="l" pos="325440"/>
                <a:tab algn="l" pos="650880"/>
                <a:tab algn="l" pos="976320"/>
                <a:tab algn="l" pos="1301760"/>
                <a:tab algn="l" pos="1627200"/>
                <a:tab algn="l" pos="1952640"/>
                <a:tab algn="l" pos="2278080"/>
                <a:tab algn="l" pos="2603520"/>
                <a:tab algn="l" pos="2928960"/>
                <a:tab algn="l" pos="3254400"/>
                <a:tab algn="l" pos="3579840"/>
                <a:tab algn="l" pos="3905280"/>
                <a:tab algn="l" pos="4230720"/>
                <a:tab algn="l" pos="4556160"/>
                <a:tab algn="l" pos="4881600"/>
                <a:tab algn="l" pos="5207040"/>
                <a:tab algn="l" pos="5532480"/>
                <a:tab algn="l" pos="5857920"/>
                <a:tab algn="l" pos="6183360"/>
                <a:tab algn="l" pos="6508800"/>
              </a:tabLst>
            </a:pPr>
            <a:r>
              <a:rPr b="1" lang="hi-IN" sz="1600" spc="-1" strike="noStrike">
                <a:solidFill>
                  <a:srgbClr val="0000ff"/>
                </a:solidFill>
                <a:latin typeface="Cordia New"/>
                <a:cs typeface="Cordia New"/>
              </a:rPr>
              <a:t>แผนงบประมา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76880" y="1143000"/>
            <a:ext cx="3262320" cy="576360"/>
          </a:xfrm>
          <a:prstGeom prst="roundRect">
            <a:avLst>
              <a:gd name="adj" fmla="val 10722"/>
            </a:avLst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5440"/>
                <a:tab algn="l" pos="650880"/>
                <a:tab algn="l" pos="976320"/>
                <a:tab algn="l" pos="1301760"/>
                <a:tab algn="l" pos="1627200"/>
                <a:tab algn="l" pos="1952640"/>
                <a:tab algn="l" pos="2278080"/>
                <a:tab algn="l" pos="2603520"/>
                <a:tab algn="l" pos="2928960"/>
                <a:tab algn="l" pos="3254400"/>
                <a:tab algn="l" pos="3579840"/>
                <a:tab algn="l" pos="3905280"/>
                <a:tab algn="l" pos="4230720"/>
                <a:tab algn="l" pos="4556160"/>
                <a:tab algn="l" pos="4881600"/>
                <a:tab algn="l" pos="5207040"/>
                <a:tab algn="l" pos="5532480"/>
                <a:tab algn="l" pos="5857920"/>
                <a:tab algn="l" pos="6183360"/>
                <a:tab algn="l" pos="65088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rdia New"/>
                <a:ea typeface="Cordia New"/>
              </a:rPr>
              <a:t>6.5 </a:t>
            </a:r>
            <a:r>
              <a:rPr b="1" lang="hi-IN" sz="1400" spc="-1" strike="noStrike">
                <a:solidFill>
                  <a:srgbClr val="0000ff"/>
                </a:solidFill>
                <a:latin typeface="Cordia New"/>
                <a:cs typeface="Cordia New"/>
              </a:rPr>
              <a:t>ป้องกันและปราบปรามอาชญากรรม และยาเสพติ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25440"/>
                <a:tab algn="l" pos="650880"/>
                <a:tab algn="l" pos="976320"/>
                <a:tab algn="l" pos="1301760"/>
                <a:tab algn="l" pos="1627200"/>
                <a:tab algn="l" pos="1952640"/>
                <a:tab algn="l" pos="2278080"/>
                <a:tab algn="l" pos="2603520"/>
                <a:tab algn="l" pos="2928960"/>
                <a:tab algn="l" pos="3254400"/>
                <a:tab algn="l" pos="3579840"/>
                <a:tab algn="l" pos="3905280"/>
                <a:tab algn="l" pos="4230720"/>
                <a:tab algn="l" pos="4556160"/>
                <a:tab algn="l" pos="4881600"/>
                <a:tab algn="l" pos="5207040"/>
                <a:tab algn="l" pos="5532480"/>
                <a:tab algn="l" pos="5857920"/>
                <a:tab algn="l" pos="6183360"/>
                <a:tab algn="l" pos="65088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rdia New"/>
                <a:ea typeface="Cordia New"/>
              </a:rPr>
              <a:t>( 8,177,000 </a:t>
            </a:r>
            <a:r>
              <a:rPr b="1" lang="hi-IN" sz="1400" spc="-1" strike="noStrike">
                <a:solidFill>
                  <a:srgbClr val="0000ff"/>
                </a:solidFill>
                <a:latin typeface="Cordia New"/>
                <a:cs typeface="Cordia New"/>
              </a:rPr>
              <a:t>บาท</a:t>
            </a:r>
            <a:r>
              <a:rPr b="1" lang="en-US" sz="1400" spc="-1" strike="noStrike">
                <a:solidFill>
                  <a:srgbClr val="0000ff"/>
                </a:solidFill>
                <a:latin typeface="Cordia New"/>
                <a:ea typeface="Cordia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8520" y="1852560"/>
            <a:ext cx="1368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spAutoFit/>
          </a:bodyPr>
          <a:p>
            <a:pPr algn="ctr">
              <a:lnSpc>
                <a:spcPct val="72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1600" spc="-1" strike="noStrike">
                <a:solidFill>
                  <a:srgbClr val="ff0000"/>
                </a:solidFill>
                <a:latin typeface="Browallia New"/>
                <a:cs typeface="Browallia New"/>
              </a:rPr>
              <a:t>เป้าหมายการให้บริการกระทรว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84520" y="1801800"/>
            <a:ext cx="201600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50000">
                <a:srgbClr val="fefefe"/>
              </a:gs>
              <a:gs pos="100000">
                <a:srgbClr val="ff993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2.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ประชาชนสามารถเข้าถึงหลักประกัน</a:t>
            </a:r>
            <a:r>
              <a:rPr b="0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ุขภาพ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และได้รับบริการสุขภาพที่มีคุณภาพมาตรฐานอย่างทั่วถึง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และเป็นธรรม  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524,056,500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73600" y="1781280"/>
            <a:ext cx="2808360" cy="503280"/>
          </a:xfrm>
          <a:prstGeom prst="roundRect">
            <a:avLst>
              <a:gd name="adj" fmla="val 14704"/>
            </a:avLst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4.. </a:t>
            </a:r>
            <a:r>
              <a:rPr b="1" lang="th-TH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ประชาชนมีพฤติกรรมสุขภาพพอเพียง ที่ถูกต้อง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รวมทั้งมีส่วนร่วมในการดูแลสุขภาพที่เหมาะสม </a:t>
            </a:r>
            <a:r>
              <a:rPr b="1" lang="th-TH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199,670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,</a:t>
            </a:r>
            <a:r>
              <a:rPr b="1" lang="th-TH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1 00 </a:t>
            </a:r>
            <a:r>
              <a:rPr b="1" lang="th-TH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th-TH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53240" y="1781280"/>
            <a:ext cx="2844720" cy="503280"/>
          </a:xfrm>
          <a:prstGeom prst="roundRect">
            <a:avLst>
              <a:gd name="adj" fmla="val 14704"/>
            </a:avLst>
          </a:prstGeom>
          <a:gradFill rotWithShape="0">
            <a:gsLst>
              <a:gs pos="0">
                <a:srgbClr val="df4fe3"/>
              </a:gs>
              <a:gs pos="50000">
                <a:srgbClr val="ffffff"/>
              </a:gs>
              <a:gs pos="100000">
                <a:srgbClr val="df4f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6.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ประชาชนผู้เสพและผู้ติดยาเสพติดได้รั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การบำบัดรักษาฟื้นฟูให้สามารถดำเนินชีวิตได้ตามปกติ  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8,177,000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8520" y="2583000"/>
            <a:ext cx="151128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spAutoFit/>
          </a:bodyPr>
          <a:p>
            <a:pPr algn="ctr">
              <a:lnSpc>
                <a:spcPct val="72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1600" spc="-1" strike="noStrike">
                <a:solidFill>
                  <a:srgbClr val="ff00ff"/>
                </a:solidFill>
                <a:latin typeface="Browallia New"/>
                <a:cs typeface="Browallia New"/>
              </a:rPr>
              <a:t>ยุทธศาสตร์กระทรว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26080" y="2354400"/>
            <a:ext cx="1941480" cy="628560"/>
          </a:xfrm>
          <a:prstGeom prst="rect">
            <a:avLst/>
          </a:prstGeom>
          <a:gradFill rotWithShape="0">
            <a:gsLst>
              <a:gs pos="0">
                <a:srgbClr val="cc99ff">
                  <a:alpha val="90196"/>
                </a:srgbClr>
              </a:gs>
              <a:gs pos="50000">
                <a:srgbClr val="fefefe"/>
              </a:gs>
              <a:gs pos="100000">
                <a:srgbClr val="cc99ff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3280" rIns="53280" tIns="26640" bIns="26640" anchor="ctr">
            <a:noAutofit/>
          </a:bodyPr>
          <a:p>
            <a:pPr marL="311040" indent="-31104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4.2. </a:t>
            </a:r>
            <a:r>
              <a:rPr b="0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ร้างความเข้มแข็งในการมีส่วนร่วมของ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กระบวนการสุขภาพภาคประชาชน รวมทั้ง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พัฒนามาตรการที่เอื้อต่อการปรับเปลี่ย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พฤติกรรมสุขภาพที่ด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60880" y="2354400"/>
            <a:ext cx="1425600" cy="639720"/>
          </a:xfrm>
          <a:prstGeom prst="rect">
            <a:avLst/>
          </a:prstGeom>
          <a:gradFill rotWithShape="0">
            <a:gsLst>
              <a:gs pos="0">
                <a:srgbClr val="cc99ff">
                  <a:alpha val="90196"/>
                </a:srgbClr>
              </a:gs>
              <a:gs pos="50000">
                <a:srgbClr val="fefefe"/>
              </a:gs>
              <a:gs pos="100000">
                <a:srgbClr val="cc99ff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3280" rIns="53280" tIns="26640" bIns="26640" anchor="ctr">
            <a:noAutofit/>
          </a:bodyPr>
          <a:p>
            <a:pPr marL="311040" indent="-31104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4.1. </a:t>
            </a:r>
            <a:r>
              <a:rPr b="0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เสริมสร้างปัจจัยพื้นฐานของการมีพฤติกรร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ุขภาพที่ถูกต้องอย่างพอเพียงที่เอื้อต่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การมีสุขภาพดีของประชาช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2880" y="2343240"/>
            <a:ext cx="2376360" cy="63972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3280" rIns="53280" tIns="26640" bIns="26640" anchor="ctr">
            <a:noAutofit/>
          </a:bodyPr>
          <a:p>
            <a:pPr marL="533520" indent="-53352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BrowalliaUPC"/>
              </a:rPr>
              <a:t>2.1.</a:t>
            </a:r>
            <a:r>
              <a:rPr b="0" lang="hi-IN" sz="800" spc="-1" strike="noStrike">
                <a:solidFill>
                  <a:srgbClr val="000000"/>
                </a:solidFill>
                <a:latin typeface="Arial"/>
                <a:cs typeface="BrowalliaUPC"/>
              </a:rPr>
              <a:t>พัฒนาระบบบริหารจัดการ และระบบบริการด้านสุขภาพให้มีคุณภาพมาตรฐา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hi-IN" sz="800" spc="-1" strike="noStrike">
                <a:solidFill>
                  <a:srgbClr val="000000"/>
                </a:solidFill>
                <a:latin typeface="Arial"/>
                <a:cs typeface="BrowalliaUPC"/>
              </a:rPr>
              <a:t>ในระบบหลักประกันสุขภาพ รวมทั้งส่งเสริมและพัฒนามาตรฐานการกำกั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hi-IN" sz="800" spc="-1" strike="noStrike">
                <a:solidFill>
                  <a:srgbClr val="000000"/>
                </a:solidFill>
                <a:latin typeface="Arial"/>
                <a:cs typeface="BrowalliaUPC"/>
              </a:rPr>
              <a:t>สถานบริการด้านสุขภาพทั้งภาครัฐและภาคเอกชนให้มีคุณภาพ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hi-IN" sz="800" spc="-1" strike="noStrike">
                <a:solidFill>
                  <a:srgbClr val="000000"/>
                </a:solidFill>
                <a:latin typeface="Arial"/>
                <a:cs typeface="BrowalliaUPC"/>
              </a:rPr>
              <a:t>มาตรฐานตามเกณฑ์ที่กำหนด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47120" y="2365200"/>
            <a:ext cx="2147760" cy="584280"/>
          </a:xfrm>
          <a:prstGeom prst="rect">
            <a:avLst/>
          </a:prstGeom>
          <a:gradFill rotWithShape="0">
            <a:gsLst>
              <a:gs pos="0">
                <a:srgbClr val="df4fe3">
                  <a:alpha val="90196"/>
                </a:srgbClr>
              </a:gs>
              <a:gs pos="50000">
                <a:srgbClr val="fefefe"/>
              </a:gs>
              <a:gs pos="100000">
                <a:srgbClr val="df4fe3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3280" rIns="53280" tIns="26640" bIns="26640" anchor="ctr">
            <a:noAutofit/>
          </a:bodyPr>
          <a:p>
            <a:pPr marL="311040" indent="-31104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6.1 </a:t>
            </a:r>
            <a:r>
              <a:rPr b="0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เสริมสร้างระบบการเฝ้าระวัง ควบคุม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ป้องกัน  บำบัด  รักษาและฟื้นฟูสภาพของประชาชนผู้เสพ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และผู้ติดยาเสพติดให้มีประสิทธิภาพและยั่งยื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9160" y="3160800"/>
            <a:ext cx="1096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spAutoFit/>
          </a:bodyPr>
          <a:p>
            <a:pPr algn="ctr">
              <a:lnSpc>
                <a:spcPct val="82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1000" spc="-1" strike="noStrike">
                <a:solidFill>
                  <a:srgbClr val="008000"/>
                </a:solidFill>
                <a:latin typeface="Browallia New"/>
                <a:cs typeface="Browallia New"/>
              </a:rPr>
              <a:t>เป้าหมายการให้บริการหน่วยงา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81240" y="3068640"/>
            <a:ext cx="2205000" cy="50328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1.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ถานบริการสุขภาพแล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ถานประกอบการธุรกิจบริการสุขภาพมีคุณภาพตามมาตรฐา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 504,273,100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84520" y="3068640"/>
            <a:ext cx="1513080" cy="50148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2.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ผู้บริโภครับรู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ิทธิประโยชน์ในการคุ้มครองด้านบริการสุขภาพ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 19,783,400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 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91200" y="3070080"/>
            <a:ext cx="1469880" cy="503280"/>
          </a:xfrm>
          <a:prstGeom prst="roundRect">
            <a:avLst>
              <a:gd name="adj" fmla="val 7657"/>
            </a:avLst>
          </a:prstGeom>
          <a:gradFill rotWithShape="0">
            <a:gsLst>
              <a:gs pos="0">
                <a:srgbClr val="cc99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1. 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ประชาชนมีความรู้ที่จำเป็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และพฤติกรรมที่ถูกต้องในการดูแลสุขภาพ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 67,292,300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 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5600" y="3070080"/>
            <a:ext cx="1427400" cy="503280"/>
          </a:xfrm>
          <a:prstGeom prst="roundRect">
            <a:avLst>
              <a:gd name="adj" fmla="val 7657"/>
            </a:avLst>
          </a:prstGeom>
          <a:gradFill rotWithShape="0">
            <a:gsLst>
              <a:gs pos="0">
                <a:srgbClr val="cc99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2..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ภาคีเครือข่ายมีส่วนร่ว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ในการจัดกิจกรรมด้านสุขภาพ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 132,377,800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201160" y="3070080"/>
            <a:ext cx="1546200" cy="503280"/>
          </a:xfrm>
          <a:prstGeom prst="roundRect">
            <a:avLst>
              <a:gd name="adj" fmla="val 14704"/>
            </a:avLst>
          </a:prstGeom>
          <a:gradFill rotWithShape="0">
            <a:gsLst>
              <a:gs pos="0">
                <a:srgbClr val="df4fe3"/>
              </a:gs>
              <a:gs pos="50000">
                <a:srgbClr val="ffffff"/>
              </a:gs>
              <a:gs pos="100000">
                <a:srgbClr val="df4f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1..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ถานบริการสุขภาพ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มีระบบรายงานข้อมูลผู้บำบัดรักษายาเสพติด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 8,177,000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 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9200" y="3860640"/>
            <a:ext cx="6969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1000" spc="-1" strike="noStrike">
                <a:solidFill>
                  <a:srgbClr val="008000"/>
                </a:solidFill>
                <a:latin typeface="Browallia New"/>
                <a:cs typeface="Browallia New"/>
              </a:rPr>
              <a:t>กลยุทธ์กร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49240" y="3645000"/>
            <a:ext cx="1366920" cy="647640"/>
          </a:xfrm>
          <a:prstGeom prst="roundRect">
            <a:avLst>
              <a:gd name="adj" fmla="val 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1.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พัฒนาระบบบริการสุขภาพให้ได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คุณภาพมาตรฐาน ด้านบริหารจัดการ แล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ริการสุขภาพ ด้านอาคารสถานที่แล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ด้านวิศวกรรมการแพทย์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 360,950,900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78080" y="3645000"/>
            <a:ext cx="1224000" cy="647640"/>
          </a:xfrm>
          <a:prstGeom prst="roundRect">
            <a:avLst>
              <a:gd name="adj" fmla="val 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2.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จัดตั้งและพัฒนากลไกร่วมระหว่าง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ภาครัฐและเอกชนในการส่งเสริ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และสนับสนุนธุรกิจบริการสุขภาพให้ม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คุณภาพตามมาตรฐานอย่างยั่งยื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22,224,200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84520" y="3645000"/>
            <a:ext cx="1081080" cy="647640"/>
          </a:xfrm>
          <a:prstGeom prst="roundRect">
            <a:avLst>
              <a:gd name="adj" fmla="val 0"/>
            </a:avLst>
          </a:prstGeom>
          <a:blipFill rotWithShape="0">
            <a:blip r:embed="rId3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3.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พัฒนาองค์ความรู้แล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เทคโนโลยีด้านระบบบริการสุขภาพ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ุขศึกษา และสุขภาพ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ภาคประชาช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121,098,000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37240" y="3645000"/>
            <a:ext cx="936360" cy="647640"/>
          </a:xfrm>
          <a:prstGeom prst="roundRect">
            <a:avLst>
              <a:gd name="adj" fmla="val 0"/>
            </a:avLst>
          </a:prstGeom>
          <a:blipFill rotWithShape="0">
            <a:blip r:embed="rId4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1.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พัฒนาศักยภาพและถ่ายทอด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ิทธิประโยชน์เพื่อให้ผู้บริโภ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ได้รับการคุ้มครอง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19,783,400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45240" y="3645000"/>
            <a:ext cx="1079280" cy="6476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" rIns="10800" tIns="6480" bIns="64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1.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เสริมสร้างจิตสำนึก ความรู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และทักษะที่จำเป็นแก่ประชาช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ให้มีพฤติกรรมสุขภาพ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ที่เหมาะส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 67,292,300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65920" y="3624120"/>
            <a:ext cx="1228680" cy="6955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" rIns="10800" tIns="6480" bIns="64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1.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่งเสริมสนับสนุนภาคีเครือข่าย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ในการดำเนินกิจกรรมด้านสุขภาพ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 132,377,800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174160" y="3624120"/>
            <a:ext cx="1504800" cy="679680"/>
          </a:xfrm>
          <a:prstGeom prst="rect">
            <a:avLst/>
          </a:prstGeom>
          <a:gradFill rotWithShape="0">
            <a:gsLst>
              <a:gs pos="0">
                <a:srgbClr val="df4fe3">
                  <a:alpha val="90196"/>
                </a:srgbClr>
              </a:gs>
              <a:gs pos="50000">
                <a:srgbClr val="fefefe"/>
              </a:gs>
              <a:gs pos="100000">
                <a:srgbClr val="df4fe3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3280" rIns="53280" tIns="26640" bIns="26640" anchor="ctr">
            <a:noAutofit/>
          </a:bodyPr>
          <a:p>
            <a:pPr marL="311040" indent="-31104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1.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่งเสริมพัฒนาระบ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รายงานข้อมูลผู้บำบัดรักษา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ยาเสพติด  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8,177,000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80" y="4365720"/>
            <a:ext cx="647640" cy="796680"/>
          </a:xfrm>
          <a:custGeom>
            <a:avLst/>
            <a:gdLst>
              <a:gd name="textAreaLeft" fmla="*/ 0 w 647640"/>
              <a:gd name="textAreaRight" fmla="*/ 648000 w 647640"/>
              <a:gd name="textAreaTop" fmla="*/ 0 h 796680"/>
              <a:gd name="textAreaBottom" fmla="*/ 797040 h 796680"/>
            </a:gdLst>
            <a:ahLst/>
            <a:rect l="textAreaLeft" t="textAreaTop" r="textAreaRight" b="textAreaBottom"/>
            <a:pathLst>
              <a:path w="21600" h="26568">
                <a:moveTo>
                  <a:pt x="0" y="0"/>
                </a:moveTo>
                <a:arcTo wR="0" hR="0" stAng="16200000" swAng="-5400000"/>
                <a:lnTo>
                  <a:pt x="0" y="26568"/>
                </a:lnTo>
                <a:arcTo wR="0" hR="0" stAng="10800000" swAng="-5400000"/>
                <a:lnTo>
                  <a:pt x="21600" y="26568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1.</a:t>
            </a: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ผลงานการส่งเสริม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พัฒนาและควบคุม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กำกับคุณภาพมาตรฐาน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ริการสุขภาพใน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ถานบริการสุขภาพ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ภาครัฐและเอกชน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113,169,400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24160" y="4365720"/>
            <a:ext cx="649080" cy="796680"/>
          </a:xfrm>
          <a:custGeom>
            <a:avLst/>
            <a:gdLst>
              <a:gd name="textAreaLeft" fmla="*/ 0 w 649080"/>
              <a:gd name="textAreaRight" fmla="*/ 649440 w 649080"/>
              <a:gd name="textAreaTop" fmla="*/ 0 h 796680"/>
              <a:gd name="textAreaBottom" fmla="*/ 796680 h 796680"/>
            </a:gdLst>
            <a:ahLst/>
            <a:rect l="textAreaLeft" t="textAreaTop" r="textAreaRight" b="textAreaBottom"/>
            <a:pathLst>
              <a:path w="21600" h="26509">
                <a:moveTo>
                  <a:pt x="0" y="0"/>
                </a:moveTo>
                <a:arcTo wR="0" hR="0" stAng="16200000" swAng="-5400000"/>
                <a:lnTo>
                  <a:pt x="0" y="26509"/>
                </a:lnTo>
                <a:arcTo wR="0" hR="0" stAng="10800000" swAng="-5400000"/>
                <a:lnTo>
                  <a:pt x="21600" y="2650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2.</a:t>
            </a: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ผลงานการส่งเสริม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พัฒนาและควบคุม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กำกับคุณภาพ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มาตรฐานด้านอาคาร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ถานที่ใน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ถานบริการภาครัฐ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90,361,200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44880" y="4365720"/>
            <a:ext cx="636480" cy="796680"/>
          </a:xfrm>
          <a:custGeom>
            <a:avLst/>
            <a:gdLst>
              <a:gd name="textAreaLeft" fmla="*/ 0 w 636480"/>
              <a:gd name="textAreaRight" fmla="*/ 636840 w 636480"/>
              <a:gd name="textAreaTop" fmla="*/ 0 h 796680"/>
              <a:gd name="textAreaBottom" fmla="*/ 796680 h 796680"/>
            </a:gdLst>
            <a:ahLst/>
            <a:rect l="textAreaLeft" t="textAreaTop" r="textAreaRight" b="textAreaBottom"/>
            <a:pathLst>
              <a:path w="21600" h="27034">
                <a:moveTo>
                  <a:pt x="0" y="0"/>
                </a:moveTo>
                <a:arcTo wR="0" hR="0" stAng="16200000" swAng="-5400000"/>
                <a:lnTo>
                  <a:pt x="0" y="27034"/>
                </a:lnTo>
                <a:arcTo wR="0" hR="0" stAng="10800000" swAng="-5400000"/>
                <a:lnTo>
                  <a:pt x="21600" y="27034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3.</a:t>
            </a: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ผลงานการส่งเสริม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นับสนุน และพัฒนา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คุณภาพตามมาตรฐาน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ด้านวิศวกรรม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การแพทย์ในสถาน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ริการสุขภาพภาครัฐ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 157,420,300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65600" y="4365720"/>
            <a:ext cx="647640" cy="796680"/>
          </a:xfrm>
          <a:custGeom>
            <a:avLst/>
            <a:gdLst>
              <a:gd name="textAreaLeft" fmla="*/ 0 w 647640"/>
              <a:gd name="textAreaRight" fmla="*/ 648000 w 647640"/>
              <a:gd name="textAreaTop" fmla="*/ 0 h 796680"/>
              <a:gd name="textAreaBottom" fmla="*/ 797040 h 796680"/>
            </a:gdLst>
            <a:ahLst/>
            <a:rect l="textAreaLeft" t="textAreaTop" r="textAreaRight" b="textAreaBottom"/>
            <a:pathLst>
              <a:path w="21600" h="26568">
                <a:moveTo>
                  <a:pt x="0" y="0"/>
                </a:moveTo>
                <a:arcTo wR="0" hR="0" stAng="16200000" swAng="-5400000"/>
                <a:lnTo>
                  <a:pt x="0" y="26568"/>
                </a:lnTo>
                <a:arcTo wR="0" hR="0" stAng="10800000" swAng="-5400000"/>
                <a:lnTo>
                  <a:pt x="21600" y="26568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4.</a:t>
            </a: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ธุรกิจบริการสุขภาพ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ได้รับการส่งเสริมแล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นับสนุนให้มีคุณภาพ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และมาตรฐาน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22,224,200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4365720"/>
            <a:ext cx="863640" cy="792000"/>
          </a:xfrm>
          <a:prstGeom prst="roundRect">
            <a:avLst>
              <a:gd name="adj" fmla="val 0"/>
            </a:avLst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5.</a:t>
            </a: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ผลงานการวิจัย พัฒนา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องค์ความรู้ และเทคโนโลยี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ด้านระบบริการสุขภาพ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ุขศึกษา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และสุขภาพภาคประชาชน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 121,098,000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92520" y="4365720"/>
            <a:ext cx="971640" cy="792000"/>
          </a:xfrm>
          <a:prstGeom prst="roundRect">
            <a:avLst>
              <a:gd name="adj" fmla="val 0"/>
            </a:avLst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6. .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ผลงานการส่งเสริมคุ้มครอง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ผู้บริโภคด้านบริการสุขภาพ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19,783,400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673600" y="4365720"/>
            <a:ext cx="1224000" cy="863640"/>
          </a:xfrm>
          <a:prstGeom prst="roundRect">
            <a:avLst>
              <a:gd name="adj" fmla="val 0"/>
            </a:avLst>
          </a:prstGeom>
          <a:noFill/>
          <a:ln w="1260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7.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ประชาชนและอาสาสมัคร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าธารณสุขกลุ่มเป้าหมายได้รับการ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ถ่ายทอดความรู้ด้านสุขภาพเพื่อน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ไปสู่การปรับเปลี่ยนพฤติกรรมสุขภาพ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 67,292,300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69240" y="4365720"/>
            <a:ext cx="1109520" cy="792000"/>
          </a:xfrm>
          <a:prstGeom prst="roundRect">
            <a:avLst>
              <a:gd name="adj" fmla="val 0"/>
            </a:avLst>
          </a:prstGeom>
          <a:noFill/>
          <a:ln w="1260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8.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ภาคีเครือข่ายได้รับการ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่งเสริมและสนับสนุนให้ม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กิจกรรมด้านสุขภาพ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 132,377,800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151840" y="4381560"/>
            <a:ext cx="1554120" cy="703080"/>
          </a:xfrm>
          <a:prstGeom prst="roundRect">
            <a:avLst>
              <a:gd name="adj" fmla="val 0"/>
            </a:avLst>
          </a:prstGeom>
          <a:noFill/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9.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ระบบรายงานข้อมูลผู้บำบัดรักษา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ยาเสพติดได้รับการปรับปรุงและพัฒนาเพื่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ให้ได้ข้อมูลที่มีคุณภาพ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8,177,000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0520" y="5229360"/>
            <a:ext cx="863640" cy="484200"/>
          </a:xfrm>
          <a:prstGeom prst="roundRect">
            <a:avLst>
              <a:gd name="adj" fmla="val 0"/>
            </a:avLst>
          </a:prstGeom>
          <a:noFill/>
          <a:ln cap="rnd" w="12600">
            <a:solidFill>
              <a:srgbClr val="ff99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1.1 </a:t>
            </a: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่งเสริม พัฒนา ควบคุม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กำกับและประเมินคุณภาพ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มาตรฐานบริการสุขภาพใน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ถานบริการสุขภาพภาครัฐ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90,502,800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60520" y="5734080"/>
            <a:ext cx="863640" cy="503280"/>
          </a:xfrm>
          <a:prstGeom prst="roundRect">
            <a:avLst>
              <a:gd name="adj" fmla="val 0"/>
            </a:avLst>
          </a:prstGeom>
          <a:noFill/>
          <a:ln cap="rnd" w="1260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1.2 </a:t>
            </a: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่งเสริม พัฒนาและควบคุม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กำกับสถานบริการสุขภาพ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ภาครัฐให้ได้คุณภาพมาตรฐาน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งานสุขศึกษา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 9,372,600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0520" y="6308640"/>
            <a:ext cx="863640" cy="433440"/>
          </a:xfrm>
          <a:prstGeom prst="roundRect">
            <a:avLst>
              <a:gd name="adj" fmla="val 0"/>
            </a:avLst>
          </a:prstGeom>
          <a:noFill/>
          <a:ln cap="rnd" w="1260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1.3 </a:t>
            </a:r>
            <a:r>
              <a:rPr b="1" lang="th-TH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่งเสริมพัฒนา และ ควบคุม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กำกับสถานบริการสุขภาพ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ภาคเอกชนให้ได้คุณภาพ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มาตรฐานตามที่กฎหมายกำหนด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13,294,000 </a:t>
            </a:r>
            <a:r>
              <a:rPr b="1" lang="th-TH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th-TH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96880" y="5229360"/>
            <a:ext cx="576360" cy="1514520"/>
          </a:xfrm>
          <a:custGeom>
            <a:avLst/>
            <a:gdLst>
              <a:gd name="textAreaLeft" fmla="*/ 0 w 576360"/>
              <a:gd name="textAreaRight" fmla="*/ 576720 w 576360"/>
              <a:gd name="textAreaTop" fmla="*/ 0 h 1514520"/>
              <a:gd name="textAreaBottom" fmla="*/ 1514880 h 1514520"/>
            </a:gdLst>
            <a:ahLst/>
            <a:rect l="textAreaLeft" t="textAreaTop" r="textAreaRight" b="textAreaBottom"/>
            <a:pathLst>
              <a:path w="21600" h="56737">
                <a:moveTo>
                  <a:pt x="0" y="0"/>
                </a:moveTo>
                <a:arcTo wR="0" hR="0" stAng="16200000" swAng="-5400000"/>
                <a:lnTo>
                  <a:pt x="0" y="56737"/>
                </a:lnTo>
                <a:arcTo wR="0" hR="0" stAng="10800000" swAng="-5400000"/>
                <a:lnTo>
                  <a:pt x="21600" y="5673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cap="rnd" w="1260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2.1 </a:t>
            </a: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่งเสริม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พัฒนา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มาตรฐาน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และสนับสนุน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การออกแบบ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อาคารสถานที่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ในสถานบริการ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ุขภาพภาค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รัฐทุกระดับ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 43,140,200 </a:t>
            </a: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7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44880" y="5229360"/>
            <a:ext cx="504720" cy="1514520"/>
          </a:xfrm>
          <a:custGeom>
            <a:avLst/>
            <a:gdLst>
              <a:gd name="textAreaLeft" fmla="*/ 0 w 504720"/>
              <a:gd name="textAreaRight" fmla="*/ 505080 w 504720"/>
              <a:gd name="textAreaTop" fmla="*/ 0 h 1514520"/>
              <a:gd name="textAreaBottom" fmla="*/ 1514520 h 1514520"/>
            </a:gdLst>
            <a:ahLst/>
            <a:rect l="textAreaLeft" t="textAreaTop" r="textAreaRight" b="textAreaBottom"/>
            <a:pathLst>
              <a:path w="21600" h="64785">
                <a:moveTo>
                  <a:pt x="0" y="0"/>
                </a:moveTo>
                <a:arcTo wR="0" hR="0" stAng="16200000" swAng="-5400000"/>
                <a:lnTo>
                  <a:pt x="0" y="64785"/>
                </a:lnTo>
                <a:arcTo wR="0" hR="0" stAng="10800000" swAng="-5400000"/>
                <a:lnTo>
                  <a:pt x="21600" y="6478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cap="rnd" w="1260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2.2 </a:t>
            </a: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ควบคุม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กำกับและ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ประเมิน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มาตรฐานด้าน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อาคาร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ถานที่ใน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ถานบริการ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ุขภาพ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ภาครัฐทุก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ระดับ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 47,221,000 </a:t>
            </a: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7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20880" y="5229360"/>
            <a:ext cx="503280" cy="1514520"/>
          </a:xfrm>
          <a:custGeom>
            <a:avLst/>
            <a:gdLst>
              <a:gd name="textAreaLeft" fmla="*/ 0 w 503280"/>
              <a:gd name="textAreaRight" fmla="*/ 503640 w 503280"/>
              <a:gd name="textAreaTop" fmla="*/ 0 h 1514520"/>
              <a:gd name="textAreaBottom" fmla="*/ 1514880 h 1514520"/>
            </a:gdLst>
            <a:ahLst/>
            <a:rect l="textAreaLeft" t="textAreaTop" r="textAreaRight" b="textAreaBottom"/>
            <a:pathLst>
              <a:path w="21600" h="64970">
                <a:moveTo>
                  <a:pt x="0" y="0"/>
                </a:moveTo>
                <a:arcTo wR="0" hR="0" stAng="16200000" swAng="-5400000"/>
                <a:lnTo>
                  <a:pt x="0" y="64970"/>
                </a:lnTo>
                <a:arcTo wR="0" hR="0" stAng="10800000" swAng="-5400000"/>
                <a:lnTo>
                  <a:pt x="21600" y="6497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cap="rnd" w="1260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3.1 </a:t>
            </a: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่งเสริม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นับสนุนและ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พัฒนาคุณภาพ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มาตรฐานด้าน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วิศวกรรม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การแพทย์ใน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ถานบริการ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ภาครัฐ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 157,420,300 </a:t>
            </a: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7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79600" y="5229360"/>
            <a:ext cx="792360" cy="699840"/>
          </a:xfrm>
          <a:prstGeom prst="roundRect">
            <a:avLst>
              <a:gd name="adj" fmla="val 0"/>
            </a:avLst>
          </a:prstGeom>
          <a:noFill/>
          <a:ln cap="rnd" w="1260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4.1 </a:t>
            </a: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่งเสริม พัฒนา และกำกับ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ถานประกอบการเพื่อธุรกิจ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ริการสุขภาพ </a:t>
            </a:r>
            <a:r>
              <a:rPr b="1" lang="en-US" sz="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3 </a:t>
            </a: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ประเภท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ให้มีคุณภาพตามมาตรฐาน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ที่กำหนด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 18,173,900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79600" y="6021360"/>
            <a:ext cx="792360" cy="708120"/>
          </a:xfrm>
          <a:prstGeom prst="roundRect">
            <a:avLst>
              <a:gd name="adj" fmla="val 0"/>
            </a:avLst>
          </a:prstGeom>
          <a:noFill/>
          <a:ln cap="rnd" w="1260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4.2 </a:t>
            </a: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่งเสริมและสนับสนุน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ถานพยาบาลภาคเอกชน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มีคุณภาพตามมาตรฐานเป็นที่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ยอมรับของต่างประเทศ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4,050,300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40360" y="5229360"/>
            <a:ext cx="576000" cy="1488960"/>
          </a:xfrm>
          <a:custGeom>
            <a:avLst/>
            <a:gdLst>
              <a:gd name="textAreaLeft" fmla="*/ 0 w 576000"/>
              <a:gd name="textAreaRight" fmla="*/ 576000 w 576000"/>
              <a:gd name="textAreaTop" fmla="*/ 0 h 1488960"/>
              <a:gd name="textAreaBottom" fmla="*/ 1489320 h 1488960"/>
            </a:gdLst>
            <a:ahLst/>
            <a:rect l="textAreaLeft" t="textAreaTop" r="textAreaRight" b="textAreaBottom"/>
            <a:pathLst>
              <a:path w="21600" h="55815">
                <a:moveTo>
                  <a:pt x="0" y="0"/>
                </a:moveTo>
                <a:arcTo wR="0" hR="0" stAng="16200000" swAng="-5400000"/>
                <a:lnTo>
                  <a:pt x="0" y="55815"/>
                </a:lnTo>
                <a:arcTo wR="0" hR="0" stAng="10800000" swAng="-5400000"/>
                <a:lnTo>
                  <a:pt x="21600" y="5581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cap="rnd" w="1260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5.1 </a:t>
            </a: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ศึกษา วิเคราะห์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วิจัย พัฒนา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รูปแบบ เพื่อ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พัฒนาองค์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ความรู้และ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เทคโนโลยี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ด้านระบบ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ริการสุขภาพ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ุขศึกษาและ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ุขภาพภาค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ประชาชน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 121,098,000 </a:t>
            </a: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7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37240" y="5229360"/>
            <a:ext cx="504720" cy="1512720"/>
          </a:xfrm>
          <a:custGeom>
            <a:avLst/>
            <a:gdLst>
              <a:gd name="textAreaLeft" fmla="*/ 0 w 504720"/>
              <a:gd name="textAreaRight" fmla="*/ 505080 w 504720"/>
              <a:gd name="textAreaTop" fmla="*/ 0 h 1512720"/>
              <a:gd name="textAreaBottom" fmla="*/ 1513080 h 1512720"/>
            </a:gdLst>
            <a:ahLst/>
            <a:rect l="textAreaLeft" t="textAreaTop" r="textAreaRight" b="textAreaBottom"/>
            <a:pathLst>
              <a:path w="21600" h="64708">
                <a:moveTo>
                  <a:pt x="0" y="0"/>
                </a:moveTo>
                <a:arcTo wR="0" hR="0" stAng="16200000" swAng="-5400000"/>
                <a:lnTo>
                  <a:pt x="0" y="64708"/>
                </a:lnTo>
                <a:arcTo wR="0" hR="0" stAng="10800000" swAng="-5400000"/>
                <a:lnTo>
                  <a:pt x="21600" y="64708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cap="rnd" w="1260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6.1 </a:t>
            </a: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่งเสริมการ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รับรู้สิทธิประโยชน์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ด้านบริการสุขภาพ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และสร้างเครือข่าย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คุ้มครอง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ริการสุขภาพ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 4,511,500 </a:t>
            </a: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7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13240" y="5229360"/>
            <a:ext cx="432000" cy="1512720"/>
          </a:xfrm>
          <a:custGeom>
            <a:avLst/>
            <a:gdLst>
              <a:gd name="textAreaLeft" fmla="*/ 0 w 432000"/>
              <a:gd name="textAreaRight" fmla="*/ 432360 w 432000"/>
              <a:gd name="textAreaTop" fmla="*/ 0 h 1512720"/>
              <a:gd name="textAreaBottom" fmla="*/ 1513080 h 1512720"/>
            </a:gdLst>
            <a:ahLst/>
            <a:rect l="textAreaLeft" t="textAreaTop" r="textAreaRight" b="textAreaBottom"/>
            <a:pathLst>
              <a:path w="21600" h="75591">
                <a:moveTo>
                  <a:pt x="0" y="0"/>
                </a:moveTo>
                <a:arcTo wR="0" hR="0" stAng="16200000" swAng="-5400000"/>
                <a:lnTo>
                  <a:pt x="0" y="75591"/>
                </a:lnTo>
                <a:arcTo wR="0" hR="0" stAng="10800000" swAng="-5400000"/>
                <a:lnTo>
                  <a:pt x="21600" y="7559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cap="rnd" w="1260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6.2 </a:t>
            </a: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พัฒนา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</a:t>
            </a: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ปรับปรุง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แก้ไขกฎหมาย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เฝ้าระวัง และ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รับเรื่องร้องเรียน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4,173,300 </a:t>
            </a: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7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16520" y="5300640"/>
            <a:ext cx="505080" cy="1417680"/>
          </a:xfrm>
          <a:custGeom>
            <a:avLst/>
            <a:gdLst>
              <a:gd name="textAreaLeft" fmla="*/ 0 w 505080"/>
              <a:gd name="textAreaRight" fmla="*/ 505440 w 505080"/>
              <a:gd name="textAreaTop" fmla="*/ 0 h 1417680"/>
              <a:gd name="textAreaBottom" fmla="*/ 1417680 h 1417680"/>
            </a:gdLst>
            <a:ahLst/>
            <a:rect l="textAreaLeft" t="textAreaTop" r="textAreaRight" b="textAreaBottom"/>
            <a:pathLst>
              <a:path w="21600" h="60600">
                <a:moveTo>
                  <a:pt x="0" y="0"/>
                </a:moveTo>
                <a:arcTo wR="0" hR="0" stAng="16200000" swAng="-5400000"/>
                <a:lnTo>
                  <a:pt x="0" y="60600"/>
                </a:lnTo>
                <a:arcTo wR="0" hR="0" stAng="10800000" swAng="-5400000"/>
                <a:lnTo>
                  <a:pt x="21600" y="6060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cap="rnd" w="1260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6.3 </a:t>
            </a: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่งเสริม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</a:t>
            </a: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ควบคุม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กำกับ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ประกอบการ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11,098,600 </a:t>
            </a: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7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92880" y="5300640"/>
            <a:ext cx="1081080" cy="934920"/>
          </a:xfrm>
          <a:prstGeom prst="roundRect">
            <a:avLst>
              <a:gd name="adj" fmla="val 0"/>
            </a:avLst>
          </a:prstGeom>
          <a:noFill/>
          <a:ln cap="rnd" w="12600">
            <a:solidFill>
              <a:srgbClr val="9900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7.1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ถ่ายทอดความรู้ด้านสุขภาพ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ู่อาสาสมัครสาธารณสุข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ภาคีเครือข่าย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ชุมชนและประชาช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67,292,300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45240" y="5229360"/>
            <a:ext cx="885960" cy="934920"/>
          </a:xfrm>
          <a:custGeom>
            <a:avLst/>
            <a:gdLst>
              <a:gd name="textAreaLeft" fmla="*/ 0 w 885960"/>
              <a:gd name="textAreaRight" fmla="*/ 886320 w 88596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2793">
                <a:moveTo>
                  <a:pt x="0" y="0"/>
                </a:moveTo>
                <a:arcTo wR="0" hR="0" stAng="16200000" swAng="-5400000"/>
                <a:lnTo>
                  <a:pt x="0" y="22793"/>
                </a:lnTo>
                <a:arcTo wR="0" hR="0" stAng="10800000" swAng="-5400000"/>
                <a:lnTo>
                  <a:pt x="21600" y="22793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cap="rnd" w="12600">
            <a:solidFill>
              <a:srgbClr val="9900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8.1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่งเสริมและสนับสนุ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ภาคีเครือข่าย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ในการจัดกิจกรรมสุขภาพ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132,377,800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481960" y="5157720"/>
            <a:ext cx="1308240" cy="720720"/>
          </a:xfrm>
          <a:prstGeom prst="roundRect">
            <a:avLst>
              <a:gd name="adj" fmla="val 0"/>
            </a:avLst>
          </a:prstGeom>
          <a:noFill/>
          <a:ln cap="rnd" w="12600">
            <a:solidFill>
              <a:srgbClr val="ff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9.1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พัฒนาระบบรายงานข้อมู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ผู้บำบัดรักษา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ยาเสพติด  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8,177,500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9200" y="4708440"/>
            <a:ext cx="554040" cy="20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1000" spc="-1" strike="noStrike">
                <a:solidFill>
                  <a:srgbClr val="008000"/>
                </a:solidFill>
                <a:latin typeface="Browallia New"/>
                <a:cs typeface="Browallia New"/>
              </a:rPr>
              <a:t>ผลผลิ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8520" y="5516640"/>
            <a:ext cx="360360" cy="6649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1000" spc="-1" strike="noStrike">
                <a:solidFill>
                  <a:srgbClr val="008000"/>
                </a:solidFill>
                <a:latin typeface="Browallia New"/>
                <a:cs typeface="Browallia New"/>
              </a:rPr>
              <a:t>กิ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1000" spc="-1" strike="noStrike">
                <a:solidFill>
                  <a:srgbClr val="008000"/>
                </a:solidFill>
                <a:latin typeface="Browallia New"/>
                <a:cs typeface="Browallia New"/>
              </a:rPr>
              <a:t>กรรมหลั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92880" y="6308640"/>
            <a:ext cx="3456000" cy="6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รุปความเชื่อมโยงกรมสบส</a:t>
            </a:r>
            <a:r>
              <a:rPr b="1" lang="th-TH" sz="10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 </a:t>
            </a:r>
            <a:r>
              <a:rPr b="1" lang="th-TH" sz="10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และคำของบประมาณ ปี </a:t>
            </a:r>
            <a:r>
              <a:rPr b="1" lang="th-TH" sz="10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2551</a:t>
            </a:r>
            <a:r>
              <a:rPr b="1" lang="th-TH" sz="10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ข้อมูล ณ วันที่ </a:t>
            </a:r>
            <a:r>
              <a:rPr b="1" lang="th-TH" sz="10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10 </a:t>
            </a:r>
            <a:r>
              <a:rPr b="1" lang="th-TH" sz="10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ก</a:t>
            </a:r>
            <a:r>
              <a:rPr b="1" lang="th-TH" sz="10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</a:t>
            </a:r>
            <a:r>
              <a:rPr b="1" lang="th-TH" sz="10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ย </a:t>
            </a:r>
            <a:r>
              <a:rPr b="1" lang="th-TH" sz="10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25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รวมงบประมาณที่ได้รับ </a:t>
            </a:r>
            <a:r>
              <a:rPr b="1" lang="th-TH" sz="1100" spc="-1" strike="noStrike" u="sng">
                <a:solidFill>
                  <a:srgbClr val="000000"/>
                </a:solidFill>
                <a:uFillTx/>
                <a:latin typeface="Browallia New"/>
                <a:ea typeface="Browallia New"/>
              </a:rPr>
              <a:t>731,903,600</a:t>
            </a:r>
            <a:r>
              <a:rPr b="1" lang="th-TH" sz="10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   </a:t>
            </a:r>
            <a:r>
              <a:rPr b="1" lang="th-TH" sz="9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จัดทำโดย กลุ่มนโยบายและแผน สำนักบริหาร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865600" y="1628640"/>
            <a:ext cx="144360" cy="216000"/>
          </a:xfrm>
          <a:prstGeom prst="downArrow">
            <a:avLst>
              <a:gd name="adj1" fmla="val 50000"/>
              <a:gd name="adj2" fmla="val 37406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68880" y="1628640"/>
            <a:ext cx="144360" cy="216000"/>
          </a:xfrm>
          <a:prstGeom prst="downArrow">
            <a:avLst>
              <a:gd name="adj1" fmla="val 50000"/>
              <a:gd name="adj2" fmla="val 37406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77240" y="1628640"/>
            <a:ext cx="144360" cy="216000"/>
          </a:xfrm>
          <a:prstGeom prst="downArrow">
            <a:avLst>
              <a:gd name="adj1" fmla="val 50000"/>
              <a:gd name="adj2" fmla="val 37406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20880" y="2205000"/>
            <a:ext cx="144720" cy="216000"/>
          </a:xfrm>
          <a:prstGeom prst="downArrow">
            <a:avLst>
              <a:gd name="adj1" fmla="val 50000"/>
              <a:gd name="adj2" fmla="val 37313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800000">
            <a:off x="4808520" y="2205000"/>
            <a:ext cx="144360" cy="216000"/>
          </a:xfrm>
          <a:prstGeom prst="downArrow">
            <a:avLst>
              <a:gd name="adj1" fmla="val 50000"/>
              <a:gd name="adj2" fmla="val 37406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553600" y="2205000"/>
            <a:ext cx="144360" cy="216000"/>
          </a:xfrm>
          <a:prstGeom prst="downArrow">
            <a:avLst>
              <a:gd name="adj1" fmla="val 50000"/>
              <a:gd name="adj2" fmla="val 37406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20700000">
            <a:off x="6105240" y="2204640"/>
            <a:ext cx="144360" cy="216000"/>
          </a:xfrm>
          <a:prstGeom prst="downArrow">
            <a:avLst>
              <a:gd name="adj1" fmla="val 50000"/>
              <a:gd name="adj2" fmla="val 37406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800000">
            <a:off x="1856880" y="2924280"/>
            <a:ext cx="144720" cy="215640"/>
          </a:xfrm>
          <a:prstGeom prst="downArrow">
            <a:avLst>
              <a:gd name="adj1" fmla="val 50000"/>
              <a:gd name="adj2" fmla="val 37251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20700000">
            <a:off x="3728520" y="2923920"/>
            <a:ext cx="144720" cy="215640"/>
          </a:xfrm>
          <a:prstGeom prst="downArrow">
            <a:avLst>
              <a:gd name="adj1" fmla="val 50000"/>
              <a:gd name="adj2" fmla="val 37251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20700000">
            <a:off x="5320800" y="2851200"/>
            <a:ext cx="144720" cy="288720"/>
          </a:xfrm>
          <a:prstGeom prst="downArrow">
            <a:avLst>
              <a:gd name="adj1" fmla="val 50000"/>
              <a:gd name="adj2" fmla="val 49876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20700000">
            <a:off x="7257600" y="2923920"/>
            <a:ext cx="144720" cy="215640"/>
          </a:xfrm>
          <a:prstGeom prst="downArrow">
            <a:avLst>
              <a:gd name="adj1" fmla="val 50000"/>
              <a:gd name="adj2" fmla="val 37251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840880" y="2852640"/>
            <a:ext cx="144360" cy="216000"/>
          </a:xfrm>
          <a:prstGeom prst="downArrow">
            <a:avLst>
              <a:gd name="adj1" fmla="val 50000"/>
              <a:gd name="adj2" fmla="val 37406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769240" y="4221000"/>
            <a:ext cx="144720" cy="216000"/>
          </a:xfrm>
          <a:prstGeom prst="downArrow">
            <a:avLst>
              <a:gd name="adj1" fmla="val 50000"/>
              <a:gd name="adj2" fmla="val 37313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40880" y="3500280"/>
            <a:ext cx="144360" cy="216000"/>
          </a:xfrm>
          <a:prstGeom prst="downArrow">
            <a:avLst>
              <a:gd name="adj1" fmla="val 50000"/>
              <a:gd name="adj2" fmla="val 37406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00000">
            <a:off x="1352520" y="3429000"/>
            <a:ext cx="144360" cy="216000"/>
          </a:xfrm>
          <a:prstGeom prst="downArrow">
            <a:avLst>
              <a:gd name="adj1" fmla="val 50000"/>
              <a:gd name="adj2" fmla="val 37406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92520" y="3429000"/>
            <a:ext cx="144360" cy="216000"/>
          </a:xfrm>
          <a:prstGeom prst="downArrow">
            <a:avLst>
              <a:gd name="adj1" fmla="val 50000"/>
              <a:gd name="adj2" fmla="val 37406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9800000">
            <a:off x="3438000" y="3416400"/>
            <a:ext cx="228600" cy="296640"/>
          </a:xfrm>
          <a:prstGeom prst="downArrow">
            <a:avLst>
              <a:gd name="adj1" fmla="val 50000"/>
              <a:gd name="adj2" fmla="val 32441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20700000">
            <a:off x="4881240" y="3357720"/>
            <a:ext cx="142920" cy="287280"/>
          </a:xfrm>
          <a:prstGeom prst="downArrow">
            <a:avLst>
              <a:gd name="adj1" fmla="val 50000"/>
              <a:gd name="adj2" fmla="val 50252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21600" y="3429000"/>
            <a:ext cx="144360" cy="216000"/>
          </a:xfrm>
          <a:prstGeom prst="downArrow">
            <a:avLst>
              <a:gd name="adj1" fmla="val 50000"/>
              <a:gd name="adj2" fmla="val 37406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400880" y="3500280"/>
            <a:ext cx="144360" cy="216000"/>
          </a:xfrm>
          <a:prstGeom prst="downArrow">
            <a:avLst>
              <a:gd name="adj1" fmla="val 50000"/>
              <a:gd name="adj2" fmla="val 37406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400880" y="4221000"/>
            <a:ext cx="144360" cy="216000"/>
          </a:xfrm>
          <a:prstGeom prst="downArrow">
            <a:avLst>
              <a:gd name="adj1" fmla="val 50000"/>
              <a:gd name="adj2" fmla="val 37406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4221000"/>
            <a:ext cx="144360" cy="216000"/>
          </a:xfrm>
          <a:prstGeom prst="downArrow">
            <a:avLst>
              <a:gd name="adj1" fmla="val 50000"/>
              <a:gd name="adj2" fmla="val 37406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24520" y="4221000"/>
            <a:ext cx="144360" cy="216000"/>
          </a:xfrm>
          <a:prstGeom prst="downArrow">
            <a:avLst>
              <a:gd name="adj1" fmla="val 50000"/>
              <a:gd name="adj2" fmla="val 37406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76880" y="4221000"/>
            <a:ext cx="144360" cy="216000"/>
          </a:xfrm>
          <a:prstGeom prst="downArrow">
            <a:avLst>
              <a:gd name="adj1" fmla="val 50000"/>
              <a:gd name="adj2" fmla="val 37406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97240" y="4221000"/>
            <a:ext cx="144360" cy="216000"/>
          </a:xfrm>
          <a:prstGeom prst="downArrow">
            <a:avLst>
              <a:gd name="adj1" fmla="val 50000"/>
              <a:gd name="adj2" fmla="val 37406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49240" y="4149720"/>
            <a:ext cx="144360" cy="216000"/>
          </a:xfrm>
          <a:prstGeom prst="downArrow">
            <a:avLst>
              <a:gd name="adj1" fmla="val 50000"/>
              <a:gd name="adj2" fmla="val 37406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57240" y="4221000"/>
            <a:ext cx="144720" cy="216000"/>
          </a:xfrm>
          <a:prstGeom prst="downArrow">
            <a:avLst>
              <a:gd name="adj1" fmla="val 50000"/>
              <a:gd name="adj2" fmla="val 37313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9800000">
            <a:off x="2144520" y="4149360"/>
            <a:ext cx="150480" cy="279360"/>
          </a:xfrm>
          <a:prstGeom prst="downArrow">
            <a:avLst>
              <a:gd name="adj1" fmla="val 50000"/>
              <a:gd name="adj2" fmla="val 46411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blinds dir="vert"/>
    <p:sndAc>
      <p:stSnd>
        <p:snd r:embed="rId5" name="cashreg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04:13:28Z</dcterms:created>
  <dc:creator>นายน้องเล็ก</dc:creator>
  <dc:description/>
  <dc:language>en-US</dc:language>
  <cp:lastModifiedBy>Microsoft</cp:lastModifiedBy>
  <dcterms:modified xsi:type="dcterms:W3CDTF">2007-11-01T06:41:50Z</dcterms:modified>
  <cp:revision>215</cp:revision>
  <dc:subject/>
  <dc:title>ภาพนิ่ง 1</dc:title>
</cp:coreProperties>
</file>